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7264400" cy="10375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09B-1708-47A5-BF4A-04D74C9F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5DD-FD38-499E-B6C5-91503360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4C3-6DCB-4438-B866-8966BA68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488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404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36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8488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404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2F3-289E-40B6-BAE7-6AE436CC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4F8A-9B61-4D71-9700-28915073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82E0-E90D-4543-A0AE-9B0538E8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E56D-60D2-4D4F-AAE8-FA4B7588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D3DB-89EE-4533-B42C-F24EDD39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6B45-6A9F-452A-A8D6-F6FC7876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5360" y="188640"/>
            <a:ext cx="913752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A9F2-11AB-4BD1-909A-B0BA111D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7276-EEFA-4713-9212-9307D4DE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104-47D6-4288-B336-B823334A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6D27-7185-4C03-8ABF-7406DFE9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721C-9197-4D72-9492-D1432550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5C75-E8BC-4D9E-838E-E436BE74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CD91-5B7B-4939-B238-BF1B0716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8488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7404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536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8488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67404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BE62-AFFA-443C-9376-46F4F009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560-550D-4878-884D-B2CC6AF6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D2F-F09B-40BE-B354-383878DF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7D0C-D840-4325-86EC-598C7707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360" y="188640"/>
            <a:ext cx="913752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545-79E4-4B1C-8741-1B32982F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0CA-6146-4F49-95F2-7879A12E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FE5-0737-413E-AFCA-5C36AF98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F53-18EF-4517-8C52-662F89B8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5960" y="0"/>
              <a:ext cx="964620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419040" y="4108320"/>
              <a:ext cx="48312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19920" y="0"/>
              <a:ext cx="536400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782560" y="0"/>
              <a:ext cx="9853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89208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89208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89208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230200" y="0"/>
              <a:ext cx="766548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792840" y="0"/>
              <a:ext cx="310284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072640" y="0"/>
              <a:ext cx="182304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566200" y="0"/>
              <a:ext cx="132948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865240" y="6248520"/>
            <a:ext cx="439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32168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89B5-4923-4465-8A6D-062723EDEC0D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5960" y="0"/>
              <a:ext cx="964620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419040" y="4108320"/>
              <a:ext cx="48312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19920" y="0"/>
              <a:ext cx="536400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82560" y="0"/>
              <a:ext cx="9853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89208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89208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89208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0200" y="0"/>
              <a:ext cx="766548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92840" y="0"/>
              <a:ext cx="310284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2640" y="0"/>
              <a:ext cx="182304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66200" y="0"/>
              <a:ext cx="132948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16002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39D3-7D71-4CC8-91E4-769B98D28364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115560"/>
            <a:ext cx="9137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コンピュータ囲碁 </a:t>
            </a: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2015</a:t>
            </a:r>
            <a:br>
              <a:rPr sz="4800"/>
            </a:b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加藤英樹（チーム </a:t>
            </a: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DeepZen</a:t>
            </a: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75800" y="2492280"/>
            <a:ext cx="8425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Aft>
                <a:spcPts val="437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ja-JP" sz="35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 Computer Olympiad Leide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Aft>
                <a:spcPts val="437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下坂美織二段 </a:t>
            </a:r>
            <a:r>
              <a:rPr b="0" lang="ja-JP" sz="3100" spc="-1" strike="noStrike">
                <a:solidFill>
                  <a:srgbClr val="ffffff"/>
                </a:solidFill>
                <a:latin typeface="Arial"/>
              </a:rPr>
              <a:t>対</a:t>
            </a: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Zen</a:t>
            </a:r>
            <a:r>
              <a:rPr b="0" lang="ja-JP" sz="3500" spc="-1" strike="noStrike">
                <a:solidFill>
                  <a:srgbClr val="ffffff"/>
                </a:solidFill>
                <a:latin typeface="Arial"/>
              </a:rPr>
              <a:t>（三子局）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06-2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mputer Olympiad Leid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spcAft>
                <a:spcPts val="349"/>
              </a:spcAft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6/29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7/5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日間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オランダ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ライデンのライデン大学内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nellius building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で開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spcAft>
                <a:spcPts val="349"/>
              </a:spcAft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ja-JP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Advances in Computer Games Conference (ACG2015)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同時開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spcAft>
                <a:spcPts val="349"/>
              </a:spcAft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碁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(9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13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19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他にチェス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普通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Software, Blitz), Amazons, Backgammon, Breakthrough, Chinese (Dark) Chess, Einstein würfeit nicht!, Clobber, Connect-6, Diplomacy, Dots and Boxes, Draughts, Hex, LOA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麻雀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ミニ将棋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NoGo, Nonogram, Outer-open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五目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将棋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禽将棋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Suraka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06-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碁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(9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360" y="1052280"/>
            <a:ext cx="9137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6/29-30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ヶ国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チーム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(EZGO, Coldmilk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は棄権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総当り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(2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局一組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中国ルール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目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15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分切れ負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04880" y="2309760"/>
          <a:ext cx="7665840" cy="3206880"/>
        </p:xfrm>
        <a:graphic>
          <a:graphicData uri="http://schemas.openxmlformats.org/drawingml/2006/table">
            <a:tbl>
              <a:tblPr/>
              <a:tblGrid>
                <a:gridCol w="825480"/>
                <a:gridCol w="1727280"/>
                <a:gridCol w="542880"/>
                <a:gridCol w="647640"/>
                <a:gridCol w="649440"/>
                <a:gridCol w="647640"/>
                <a:gridCol w="647640"/>
                <a:gridCol w="681120"/>
                <a:gridCol w="647640"/>
                <a:gridCol w="64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ak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G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06-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碁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(13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360" y="1052280"/>
            <a:ext cx="9137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7/1-2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ヶ国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チーム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(Coldmilk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は棄権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総当り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中国ルール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目半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30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分切れ負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04880" y="2309760"/>
          <a:ext cx="7665840" cy="3206880"/>
        </p:xfrm>
        <a:graphic>
          <a:graphicData uri="http://schemas.openxmlformats.org/drawingml/2006/table">
            <a:tbl>
              <a:tblPr/>
              <a:tblGrid>
                <a:gridCol w="825480"/>
                <a:gridCol w="1727280"/>
                <a:gridCol w="542880"/>
                <a:gridCol w="647640"/>
                <a:gridCol w="649440"/>
                <a:gridCol w="647640"/>
                <a:gridCol w="647640"/>
                <a:gridCol w="681120"/>
                <a:gridCol w="647640"/>
                <a:gridCol w="64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ak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G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06-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碁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(19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360" y="1052280"/>
            <a:ext cx="9137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7/3-4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ヶ国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7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チー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総当り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中国ルール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目半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45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分切れ負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704880" y="2309760"/>
          <a:ext cx="6985080" cy="3662280"/>
        </p:xfrm>
        <a:graphic>
          <a:graphicData uri="http://schemas.openxmlformats.org/drawingml/2006/table">
            <a:tbl>
              <a:tblPr/>
              <a:tblGrid>
                <a:gridCol w="824040"/>
                <a:gridCol w="1608120"/>
                <a:gridCol w="793440"/>
                <a:gridCol w="446400"/>
                <a:gridCol w="431640"/>
                <a:gridCol w="431640"/>
                <a:gridCol w="433440"/>
                <a:gridCol w="432000"/>
                <a:gridCol w="431640"/>
                <a:gridCol w="432000"/>
                <a:gridCol w="72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ak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G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mm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akfo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南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06-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下坂美織二段 対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Zen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（三子局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267920"/>
            <a:ext cx="87789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人工知能学会全国大会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(JSAI2015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のイベント（富山，松山に次いで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回目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月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日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於はこだて未来大学（北海道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日本ルール，三子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コミ半目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時間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+30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白番下坂二段の中押し勝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ヨセで逆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06-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5:24:11Z</dcterms:created>
  <dc:creator>Hideki Kato</dc:creator>
  <dc:description/>
  <dc:language>en-US</dc:language>
  <cp:lastModifiedBy>Hideki</cp:lastModifiedBy>
  <dcterms:modified xsi:type="dcterms:W3CDTF">2015-07-24T19:18:15Z</dcterms:modified>
  <cp:revision>356</cp:revision>
  <dc:subject/>
  <dc:title>2007-04-14 CGF モンテカルロ碁</dc:title>
</cp:coreProperties>
</file>